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12.png" ContentType="image/png"/>
  <Override PartName="/ppt/media/image9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B705-093B-4A22-855D-D1C2CE79C7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CC704E09-3A0E-4658-BBC9-406B47D0D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2376-D803-4105-8373-E8E24036F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97BFCDB-8AF5-4543-9698-89CD85C41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8DA02239-FEB9-49A2-8C83-F3C65C4E9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0A049CF-005E-4519-9440-F769D34C37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B7D79FC-D079-4778-A068-49FF0DDE7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B595339-01FC-43D3-9220-5BB539851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B5564C0-BF1A-4C52-A4E7-9A26D3C0A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A58EEAB-C9D6-4281-A9C1-FE27E8A743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824D9527-FDEB-45EC-9557-B4FDC8DD4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AA2A7-BFB1-4748-9408-428EEA211B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BA728-84D9-46C9-8899-FC903934D5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A18F8-617A-41FF-9CC4-C709608A85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FE31B-4B5E-4E98-A902-4761F1EBDA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81EA-E004-41FD-8E8B-B491ECFF41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AEF9-1546-4507-8E1F-63B78E94D7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C1AD-7546-4E9A-9B92-3F4423F59B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B45B-7F65-4F6E-8164-C4D920B55F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A150-DC54-418C-B18E-9DD17FECFD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8BCD-24D1-492E-8EAC-838C22E223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70C9-7048-402C-A2B3-B6E77736B3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7831D-15CC-4161-9F5C-3ACA4D821C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7C5E-A136-44B0-8A8C-263EDBF6EC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F703-DCD9-4BBA-B25A-E35D947902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3D35-859D-4D52-B5BA-FC3E2DFCFF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7F53-916C-4CC6-8F26-554BCE6CAC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46CE-FA89-4B35-8EFF-1FA917479C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52B14-7F52-43D6-BD54-29D42803F7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9A872-ED35-49E3-817C-1DBA259916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5AF38-08A7-4DF1-8EE3-1F9DECB323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5C1CC-1BB6-495E-A654-7125903F70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04BE7-2731-4F03-9B9E-6D3D5D947F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A298B-5F50-41A6-9864-B83746DF12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8955A-823E-41E2-B2B7-58809DB899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8955-8EF4-4923-90CB-E3D007C1D1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E694-3867-4E66-855B-42527044C9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937B-EB5D-4322-9A2C-F4C19BAF06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819520" y="1676520"/>
            <a:ext cx="6172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нтроль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 процессов: Введение 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контроль кач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AA50-7631-4DD8-AC1E-1CDA97E814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552240"/>
            <a:ext cx="5715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К – 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536480"/>
            <a:ext cx="822960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ая часть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ель – выявить и исправить ошибки до выдачи результатов анализов пац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разные методы для количественных, качественных и полуколичественны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98CA-6CEC-4C56-A095-2816B006C3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5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25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26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26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26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27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27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27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28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28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29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29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30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30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30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8B9E-D360-4594-AD08-889E3C97F6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Arial"/>
              </a:rPr>
              <a:t>Цели изучен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298520"/>
            <a:ext cx="845820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ь определение контролю качества и объяснить его связь с системой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ъяснить, чем различаются количественные, качественные и полуколичественные исследовани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4B8F-9C41-48AB-A73D-E6D5AF053D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37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8BD3-7A29-48FE-BAD5-7E07B12304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1371240"/>
            <a:ext cx="777240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троль качества (КК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это часть управления качеством, нацеленная на выполнение требований по качеству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ISO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9000:2000 (3.4.1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К исследует «контрольные» материалы  известных веществ параллельно с пробами пациентов для контроля правильности и воспроизводимости всего процесса исследования (анализа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780A-7CE4-46B9-B865-90977717C2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Content Placeholder 2"/>
          <p:cNvSpPr/>
          <p:nvPr/>
        </p:nvSpPr>
        <p:spPr>
          <a:xfrm>
            <a:off x="380880" y="1828800"/>
            <a:ext cx="838224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Целью КК </a:t>
            </a: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является выявление ошибок и их испра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до выд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результатов анализов пацие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6ADF-9741-418D-817E-42C9097ABB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399600"/>
            <a:ext cx="8381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личественные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160" y="1206000"/>
            <a:ext cx="7467480" cy="10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змеряют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количество определенного вещества в пробе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7" name="Group 21"/>
          <p:cNvGrpSpPr/>
          <p:nvPr/>
        </p:nvGrpSpPr>
        <p:grpSpPr>
          <a:xfrm>
            <a:off x="609480" y="4114800"/>
            <a:ext cx="1828800" cy="1447560"/>
            <a:chOff x="609480" y="4114800"/>
            <a:chExt cx="1828800" cy="1447560"/>
          </a:xfrm>
        </p:grpSpPr>
        <p:grpSp>
          <p:nvGrpSpPr>
            <p:cNvPr id="208" name="Group 18"/>
            <p:cNvGrpSpPr/>
            <p:nvPr/>
          </p:nvGrpSpPr>
          <p:grpSpPr>
            <a:xfrm>
              <a:off x="609480" y="4114800"/>
              <a:ext cx="1828800" cy="1447560"/>
              <a:chOff x="609480" y="4114800"/>
              <a:chExt cx="1828800" cy="1447560"/>
            </a:xfrm>
          </p:grpSpPr>
          <p:sp>
            <p:nvSpPr>
              <p:cNvPr id="209" name="AutoShape 6"/>
              <p:cNvSpPr/>
              <p:nvPr/>
            </p:nvSpPr>
            <p:spPr>
              <a:xfrm>
                <a:off x="838080" y="457200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7"/>
              <p:cNvSpPr/>
              <p:nvPr/>
            </p:nvSpPr>
            <p:spPr>
              <a:xfrm>
                <a:off x="609480" y="449568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1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11480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Rectangle 17"/>
              <p:cNvSpPr/>
              <p:nvPr/>
            </p:nvSpPr>
            <p:spPr>
              <a:xfrm>
                <a:off x="2133360" y="426708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AutoShape 19"/>
            <p:cNvSpPr/>
            <p:nvPr/>
          </p:nvSpPr>
          <p:spPr>
            <a:xfrm>
              <a:off x="1257120" y="510516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920"/>
                <a:gd name="textAreaBottom" fmla="*/ 1094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20"/>
            <p:cNvSpPr/>
            <p:nvPr/>
          </p:nvSpPr>
          <p:spPr>
            <a:xfrm flipH="1" flipV="1">
              <a:off x="1447560" y="525744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" name="Picture 47" descr="Beaker"/>
          <p:cNvPicPr/>
          <p:nvPr/>
        </p:nvPicPr>
        <p:blipFill>
          <a:blip r:embed="rId2"/>
          <a:stretch/>
        </p:blipFill>
        <p:spPr>
          <a:xfrm>
            <a:off x="7010280" y="4635360"/>
            <a:ext cx="1322640" cy="1384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494600"/>
            <a:ext cx="2203560" cy="1983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4"/>
          <p:cNvSpPr/>
          <p:nvPr/>
        </p:nvSpPr>
        <p:spPr>
          <a:xfrm>
            <a:off x="533520" y="242712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Измерения должны быть точными и воспроизводим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8" descr="10040_lores"/>
          <p:cNvPicPr/>
          <p:nvPr/>
        </p:nvPicPr>
        <p:blipFill>
          <a:blip r:embed="rId4"/>
          <a:stretch/>
        </p:blipFill>
        <p:spPr>
          <a:xfrm>
            <a:off x="2666880" y="3675240"/>
            <a:ext cx="3962520" cy="264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F97D-40AD-4156-8F31-E266DA7B64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400" spc="-1" strike="noStrike">
                <a:solidFill>
                  <a:srgbClr val="00007d"/>
                </a:solidFill>
                <a:latin typeface="Verdana"/>
              </a:rPr>
              <a:t>Качественные методы исследования</a:t>
            </a:r>
            <a:endParaRPr b="0" lang="en-US" sz="3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62000" y="1143000"/>
            <a:ext cx="5857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сследования, не дающие результатов в цифрах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личие или отсутствие рос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ожительный или отрицательны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ктивный или не реактивны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менение цв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8" descr="qc_growth_poor_growth_cdc"/>
          <p:cNvPicPr/>
          <p:nvPr/>
        </p:nvPicPr>
        <p:blipFill>
          <a:blip r:embed="rId1"/>
          <a:stretch/>
        </p:blipFill>
        <p:spPr>
          <a:xfrm>
            <a:off x="5934240" y="1701720"/>
            <a:ext cx="2415960" cy="1617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pos_neg-urease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319560"/>
            <a:ext cx="2397240" cy="1700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" descr="qc_pos_neg_latex_agglut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514600" cy="13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B5D0-BC4B-4ECE-9021-9738247C61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400" spc="-1" strike="noStrike">
                <a:solidFill>
                  <a:srgbClr val="00007d"/>
                </a:solidFill>
                <a:latin typeface="Verdana"/>
              </a:rPr>
              <a:t>Полуколичественные методы исследования</a:t>
            </a:r>
            <a:endParaRPr b="0" lang="en-US" sz="3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6840" y="2106360"/>
            <a:ext cx="8434440" cy="37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зультаты выражены в виде оценки количества вещества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следы»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умерено» или «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1+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2+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ли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3+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личество клеток в поле зр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тры и разведения в серологических тес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F17C-C463-4A02-BA21-547CA5E635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Diagram 2"/>
          <p:cNvGrpSpPr/>
          <p:nvPr/>
        </p:nvGrpSpPr>
        <p:grpSpPr>
          <a:xfrm>
            <a:off x="379440" y="760320"/>
            <a:ext cx="8303400" cy="5411520"/>
            <a:chOff x="379440" y="760320"/>
            <a:chExt cx="8303400" cy="5411520"/>
          </a:xfrm>
        </p:grpSpPr>
        <p:sp>
          <p:nvSpPr>
            <p:cNvPr id="233" name="_s1028"/>
            <p:cNvSpPr/>
            <p:nvPr/>
          </p:nvSpPr>
          <p:spPr>
            <a:xfrm flipH="1">
              <a:off x="2556000" y="3351240"/>
              <a:ext cx="10209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29"/>
            <p:cNvSpPr/>
            <p:nvPr/>
          </p:nvSpPr>
          <p:spPr>
            <a:xfrm>
              <a:off x="379440" y="2664360"/>
              <a:ext cx="2439360" cy="13737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Проверяйте данны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К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30"/>
            <p:cNvSpPr/>
            <p:nvPr/>
          </p:nvSpPr>
          <p:spPr>
            <a:xfrm>
              <a:off x="4723560" y="4188960"/>
              <a:ext cx="0" cy="686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31"/>
            <p:cNvSpPr/>
            <p:nvPr/>
          </p:nvSpPr>
          <p:spPr>
            <a:xfrm>
              <a:off x="3505320" y="4809960"/>
              <a:ext cx="2427120" cy="1361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Обеспечьт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полну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документаци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32"/>
            <p:cNvSpPr/>
            <p:nvPr/>
          </p:nvSpPr>
          <p:spPr>
            <a:xfrm>
              <a:off x="5837400" y="3351240"/>
              <a:ext cx="10209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33"/>
            <p:cNvSpPr/>
            <p:nvPr/>
          </p:nvSpPr>
          <p:spPr>
            <a:xfrm>
              <a:off x="6780960" y="2664360"/>
              <a:ext cx="1901880" cy="13737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Обучит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вес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персон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34"/>
            <p:cNvSpPr/>
            <p:nvPr/>
          </p:nvSpPr>
          <p:spPr>
            <a:xfrm flipV="1">
              <a:off x="4723560" y="1907280"/>
              <a:ext cx="0" cy="686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35"/>
            <p:cNvSpPr/>
            <p:nvPr/>
          </p:nvSpPr>
          <p:spPr>
            <a:xfrm>
              <a:off x="2630520" y="760320"/>
              <a:ext cx="3615480" cy="13737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Разработайт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задокументирован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правила 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процеду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36"/>
            <p:cNvSpPr/>
            <p:nvPr/>
          </p:nvSpPr>
          <p:spPr>
            <a:xfrm>
              <a:off x="3577320" y="2594160"/>
              <a:ext cx="2041920" cy="13737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AutoShape 17"/>
          <p:cNvSpPr/>
          <p:nvPr/>
        </p:nvSpPr>
        <p:spPr>
          <a:xfrm>
            <a:off x="6348240" y="1066680"/>
            <a:ext cx="738360" cy="609840"/>
          </a:xfrm>
          <a:custGeom>
            <a:avLst/>
            <a:gdLst>
              <a:gd name="textAreaLeft" fmla="*/ 115200 w 738360"/>
              <a:gd name="textAreaRight" fmla="*/ 646200 w 73836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7162920" y="781200"/>
            <a:ext cx="16002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включите корректи-рующие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3048120" y="2514600"/>
            <a:ext cx="3352680" cy="16747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Эта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граммы К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Olga</cp:lastModifiedBy>
  <dcterms:modified xsi:type="dcterms:W3CDTF">2013-05-11T12:50:46Z</dcterms:modified>
  <cp:revision>57</cp:revision>
  <dc:subject/>
  <dc:title>Quality Control Overview</dc:title>
</cp:coreProperties>
</file>